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08CF-97BE-403C-A7F6-ADDCBAEA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E0B9-FA91-4DD4-AA7C-AFD5AD51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208-F223-437A-9CCE-F29CB9BE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A610-D7AF-43C2-9F68-66F53AB6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A917-E395-437C-9DC0-F2467D0F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63CA-3157-4107-8197-3F252641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4469-60B7-4A82-BD75-B71E1AAD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DEB4-FE1E-46D9-8271-A0598B96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3BFC-A244-4163-B725-DB0B6791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F61D-BE7D-49AC-8F83-CB95CB17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DD9D-3DD7-4A30-BE79-AECE4EA7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4737-4BC9-42E0-96D0-1B8A4972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DED5-90ED-4A56-85A4-E15C435A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85D3-EE16-41EC-8BC4-BD845885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D8A3-7527-4058-8EB7-10632B3A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055D-85C5-4ADA-B950-62A52436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713E-2216-4657-AE36-E458CF69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4F9-5471-4BF5-8514-84EF32BC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442-CFA8-4FC6-8C7B-2AE40F0E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B57-864C-4FBE-848A-6A632411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AC7-B7AE-455B-BF12-817D33B8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1BB8-241E-4747-8FA0-57CE7037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13D-4785-4CCB-91C3-EFADF5B7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B59-E476-4464-B443-28AF6419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EACB-2D8D-4836-BA11-E0BC6EED4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1ACC-9F21-43BA-B7C0-C4D24CAAD4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90920" y="2362320"/>
            <a:ext cx="3952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ur Senses</a:t>
            </a:r>
            <a:endParaRPr b="1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Century Gothic"/>
              </a:rPr>
              <a:t>What is the color of nois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 like the anger of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ainbow of happ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pphire of never ending wa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ack and white like a music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ack like a starless n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Question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color of no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taste of sile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es green sme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taste of rap music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could touch summer, how would it fe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could hear flowers blooming, what what sound would they mak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could smell a tear, what odor would it hav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could see happiness, what color would it b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4:29:52Z</dcterms:created>
  <dc:creator>jleff</dc:creator>
  <dc:description/>
  <dc:language>en-US</dc:language>
  <cp:lastModifiedBy> </cp:lastModifiedBy>
  <dcterms:modified xsi:type="dcterms:W3CDTF">2008-10-13T20:48:17Z</dcterms:modified>
  <cp:revision>4</cp:revision>
  <dc:subject/>
  <dc:title>Slide 1</dc:title>
</cp:coreProperties>
</file>